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09F-3855-447D-A02B-8864E9B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831-2F88-4461-9489-1C960D9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FF7-B358-45B1-9999-70982005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BD4-4310-4037-B63A-2DB4B099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8F2-AFFB-4DFF-8940-6B96425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53B-7E15-43C5-8512-A5EBE4AF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691-394B-423D-87E9-4B6D0B58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EEB-AB9E-4B7C-B0E5-8DF33B9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1F0-E3A8-4193-BE77-1115716F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605-5B0B-48F4-8FB3-4719A8B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6C1-CDBD-4A9A-928C-049C165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DE7-DD78-459A-9532-9EC7EF6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2741-26F4-42CD-B5F9-053E40534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43600" cy="472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 11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 and Predict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01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delian Inheritance and Making Predi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:  A form of a gene.  Humans have 2 for each 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Normal Skin (do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Albanism (recessiv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bination of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what tra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40630" t="15870" r="0" b="0"/>
          <a:stretch/>
        </p:blipFill>
        <p:spPr>
          <a:xfrm>
            <a:off x="5029200" y="2438280"/>
            <a:ext cx="3886200" cy="379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20240" y="3097080"/>
            <a:ext cx="204480" cy="509760"/>
          </a:xfrm>
          <a:custGeom>
            <a:avLst/>
            <a:gdLst/>
            <a:ahLst/>
            <a:rect l="l" t="t" r="r" b="b"/>
            <a:pathLst>
              <a:path w="569" h="1415">
                <a:moveTo>
                  <a:pt x="23253" y="8675"/>
                </a:moveTo>
                <a:cubicBezTo>
                  <a:pt x="23229" y="8657"/>
                  <a:pt x="23219" y="8646"/>
                  <a:pt x="23205" y="8620"/>
                </a:cubicBezTo>
                <a:cubicBezTo>
                  <a:pt x="23201" y="8614"/>
                  <a:pt x="23198" y="8609"/>
                  <a:pt x="23194" y="8603"/>
                </a:cubicBezTo>
                <a:cubicBezTo>
                  <a:pt x="23205" y="8628"/>
                  <a:pt x="23216" y="8653"/>
                  <a:pt x="23228" y="8678"/>
                </a:cubicBezTo>
                <a:cubicBezTo>
                  <a:pt x="23240" y="8703"/>
                  <a:pt x="23258" y="8727"/>
                  <a:pt x="23267" y="8753"/>
                </a:cubicBezTo>
                <a:cubicBezTo>
                  <a:pt x="23276" y="8777"/>
                  <a:pt x="23277" y="8804"/>
                  <a:pt x="23289" y="8827"/>
                </a:cubicBezTo>
                <a:cubicBezTo>
                  <a:pt x="23302" y="8851"/>
                  <a:pt x="23315" y="8879"/>
                  <a:pt x="23332" y="8900"/>
                </a:cubicBezTo>
                <a:cubicBezTo>
                  <a:pt x="23346" y="8915"/>
                  <a:pt x="23350" y="8920"/>
                  <a:pt x="23352" y="8896"/>
                </a:cubicBezTo>
              </a:path>
              <a:path w="569" h="1415">
                <a:moveTo>
                  <a:pt x="22983" y="8748"/>
                </a:moveTo>
                <a:cubicBezTo>
                  <a:pt x="22972" y="8730"/>
                  <a:pt x="22970" y="8724"/>
                  <a:pt x="22958" y="8716"/>
                </a:cubicBezTo>
                <a:cubicBezTo>
                  <a:pt x="22968" y="8745"/>
                  <a:pt x="22979" y="8776"/>
                  <a:pt x="22996" y="8802"/>
                </a:cubicBezTo>
                <a:cubicBezTo>
                  <a:pt x="23011" y="8826"/>
                  <a:pt x="23026" y="8851"/>
                  <a:pt x="23043" y="8873"/>
                </a:cubicBezTo>
                <a:cubicBezTo>
                  <a:pt x="23066" y="8904"/>
                  <a:pt x="23084" y="8938"/>
                  <a:pt x="23107" y="8969"/>
                </a:cubicBezTo>
                <a:cubicBezTo>
                  <a:pt x="23130" y="9000"/>
                  <a:pt x="23155" y="9030"/>
                  <a:pt x="23176" y="9063"/>
                </a:cubicBezTo>
                <a:cubicBezTo>
                  <a:pt x="23200" y="9101"/>
                  <a:pt x="23225" y="9139"/>
                  <a:pt x="23250" y="9177"/>
                </a:cubicBezTo>
                <a:cubicBezTo>
                  <a:pt x="23268" y="9204"/>
                  <a:pt x="23286" y="9231"/>
                  <a:pt x="23307" y="9256"/>
                </a:cubicBezTo>
                <a:cubicBezTo>
                  <a:pt x="23331" y="9284"/>
                  <a:pt x="23363" y="9306"/>
                  <a:pt x="23380" y="9340"/>
                </a:cubicBezTo>
                <a:cubicBezTo>
                  <a:pt x="23389" y="9359"/>
                  <a:pt x="23392" y="9377"/>
                  <a:pt x="23402" y="9396"/>
                </a:cubicBezTo>
              </a:path>
              <a:path w="569" h="1415">
                <a:moveTo>
                  <a:pt x="22958" y="9110"/>
                </a:moveTo>
                <a:cubicBezTo>
                  <a:pt x="22937" y="9093"/>
                  <a:pt x="22936" y="9098"/>
                  <a:pt x="22913" y="9093"/>
                </a:cubicBezTo>
                <a:cubicBezTo>
                  <a:pt x="22931" y="9140"/>
                  <a:pt x="22953" y="9185"/>
                  <a:pt x="22983" y="9226"/>
                </a:cubicBezTo>
                <a:cubicBezTo>
                  <a:pt x="23003" y="9254"/>
                  <a:pt x="23024" y="9282"/>
                  <a:pt x="23045" y="9310"/>
                </a:cubicBezTo>
                <a:cubicBezTo>
                  <a:pt x="23065" y="9336"/>
                  <a:pt x="23086" y="9363"/>
                  <a:pt x="23103" y="9391"/>
                </a:cubicBezTo>
                <a:cubicBezTo>
                  <a:pt x="23119" y="9416"/>
                  <a:pt x="23133" y="9442"/>
                  <a:pt x="23150" y="9466"/>
                </a:cubicBezTo>
                <a:cubicBezTo>
                  <a:pt x="23171" y="9497"/>
                  <a:pt x="23190" y="9528"/>
                  <a:pt x="23211" y="9559"/>
                </a:cubicBezTo>
                <a:cubicBezTo>
                  <a:pt x="23233" y="9592"/>
                  <a:pt x="23259" y="9622"/>
                  <a:pt x="23280" y="9655"/>
                </a:cubicBezTo>
                <a:cubicBezTo>
                  <a:pt x="23311" y="9703"/>
                  <a:pt x="23328" y="9757"/>
                  <a:pt x="23354" y="9807"/>
                </a:cubicBezTo>
              </a:path>
              <a:path w="569" h="1415">
                <a:moveTo>
                  <a:pt x="22850" y="9582"/>
                </a:moveTo>
                <a:cubicBezTo>
                  <a:pt x="22845" y="9576"/>
                  <a:pt x="22839" y="9571"/>
                  <a:pt x="22834" y="9565"/>
                </a:cubicBezTo>
                <a:cubicBezTo>
                  <a:pt x="22850" y="9595"/>
                  <a:pt x="22870" y="9622"/>
                  <a:pt x="22892" y="9648"/>
                </a:cubicBezTo>
                <a:cubicBezTo>
                  <a:pt x="22919" y="9680"/>
                  <a:pt x="22946" y="9710"/>
                  <a:pt x="22971" y="9743"/>
                </a:cubicBezTo>
                <a:cubicBezTo>
                  <a:pt x="22995" y="9775"/>
                  <a:pt x="23017" y="9808"/>
                  <a:pt x="23042" y="9839"/>
                </a:cubicBezTo>
                <a:cubicBezTo>
                  <a:pt x="23062" y="9864"/>
                  <a:pt x="23086" y="9885"/>
                  <a:pt x="23106" y="9910"/>
                </a:cubicBezTo>
                <a:cubicBezTo>
                  <a:pt x="23124" y="9933"/>
                  <a:pt x="23150" y="9956"/>
                  <a:pt x="23165" y="9981"/>
                </a:cubicBezTo>
                <a:cubicBezTo>
                  <a:pt x="23173" y="9999"/>
                  <a:pt x="23175" y="10004"/>
                  <a:pt x="23175" y="10017"/>
                </a:cubicBez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: Do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rganism with at least 1 dominant allele will exhibit the dominant trai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n by CAPITAL LETTERS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 and Ss will have normal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: Rec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recessive trait to be expressed, two copies of that allele must be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n by lower case letters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 will have alb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it mean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erozygous or Homozygous     (Word dissec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and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homozygous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 homozygous reces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erozygous or Homozygous Gen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153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skin disord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857680" cy="34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3821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anism or Normal Sk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normal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alb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590920"/>
            <a:ext cx="44956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3434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gen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rresponding phen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Voc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you wanted to make a prediction for 20 off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16002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37339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’s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Gene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with pea plants because they are small, easy to grow, and produced large quantities of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haracteristics are observable on pea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ts-characteristics like color, heigh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Mendel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rtilized the plants (P1) to observe what traits were present in the offspring (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.F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 plants self ferti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oss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erent pea plants fert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914400" cy="86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914400" cy="87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3880" y="1936800"/>
            <a:ext cx="5562720" cy="492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ian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’s characteristics are determined by factors that are passed from one parental generation to the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589608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5181840" cy="3700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33720" y="685800"/>
            <a:ext cx="4714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minant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dominant pheno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060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ssiv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ecessive pheno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7:57:04Z</dcterms:created>
  <dc:creator>Tera Linn</dc:creator>
  <dc:description/>
  <dc:language>en-US</dc:language>
  <cp:lastModifiedBy>Tera Linn</cp:lastModifiedBy>
  <dcterms:modified xsi:type="dcterms:W3CDTF">2011-04-18T19:21:44Z</dcterms:modified>
  <cp:revision>12</cp:revision>
  <dc:subject/>
  <dc:title>Ch 11 Genetics</dc:title>
</cp:coreProperties>
</file>